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C8B-6387-4931-ADC3-B3B654E8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E27-4750-47D1-B4E9-B8385C4A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CF9-C3DB-46F4-B1D8-E6551EC3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C07-2C45-46E2-B377-2D82685F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DBE-BBAE-4DF4-8B84-6B48798D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6A2-4D26-4B59-AE1D-6C6D1BFC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B09-659D-44A5-86D1-EC96036F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CB7-8FE7-4FA3-B6AA-456F8963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848-41C4-49FB-9EA2-CCC4BCA3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C29-87AB-4AEB-919C-1A577B1D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45B-4D2F-465A-B1BD-1AC71AA1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347-D209-405E-8EA4-AEAD8A28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8662-91B4-456E-8C67-4BF4AD5A6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923000" cy="79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355464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458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769644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1536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5105520" cy="905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76201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791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1:49:08Z</dcterms:created>
  <dc:creator>grahams</dc:creator>
  <dc:description/>
  <dc:language>en-US</dc:language>
  <cp:lastModifiedBy>grahams</cp:lastModifiedBy>
  <dcterms:modified xsi:type="dcterms:W3CDTF">2012-04-26T12:33:11Z</dcterms:modified>
  <cp:revision>2</cp:revision>
  <dc:subject/>
  <dc:title>Slide 1</dc:title>
</cp:coreProperties>
</file>